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8C1D-3CA9-4EC4-92E4-AA235217F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F74A-E576-4166-981D-2BA953695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09B7-13D2-4936-8F00-EDEBC7E27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7F8D-2B1A-4452-BA04-A915D9430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6741-42A6-4CFB-BC2D-31892437A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B877-5DA8-49F0-AFCC-235C42365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4ACD-716B-4D54-B36C-76D64ED3B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5CC9-C45C-462D-816B-7E7628FC5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307F-5675-44A8-B384-62E52EE3C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EDA0-68D7-4391-95E4-C7ED8648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A712-FB09-45C8-9CEF-3E9BD8EB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B53C-646A-4B80-B3C1-3EF3E52F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8FD8F-FD05-4724-AFBD-8D4424602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ck Fin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574560"/>
            <a:ext cx="2933640" cy="2406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200400" y="1523880"/>
            <a:ext cx="57056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ck Finn not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tw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uel Clemens born with Halley's comet- died 75 years later with Halley's com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ver to freedom Jim – ms Watson's sl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ck Finn's best friend protagoni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ire about slavery polks fun or mocks the institution of sla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6:36:33Z</dcterms:created>
  <dc:creator>dcsuser</dc:creator>
  <dc:description/>
  <dc:language>en-US</dc:language>
  <cp:lastModifiedBy>dcsuser</cp:lastModifiedBy>
  <dcterms:modified xsi:type="dcterms:W3CDTF">2012-01-06T16:54:29Z</dcterms:modified>
  <cp:revision>3</cp:revision>
  <dc:subject/>
  <dc:title>Huck Finn</dc:title>
</cp:coreProperties>
</file>